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AC2-C957-44BE-ADF8-D391F248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B4F-9F42-438A-9177-016418D9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647-2F7A-425B-9778-35B39C40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C8E-3909-4289-8AB8-0DBB5BE5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51D-002D-476C-A495-CF980C5D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B40-452E-43F2-949B-47D64B38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325-0865-42F3-BBDC-7924BEA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2A7-2D6E-4A76-B90F-96B07A67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AE5-CE25-4181-A410-8ACFE01E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854-7EB6-4866-8D1D-1FCA13EE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DF4-B0F9-4D65-8D05-D4894C3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926-CC24-479A-8751-1B681DC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A570-3119-455F-A096-F0E381667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33ff.com/flags/XL_flags_embossed/Italy_flag.gif&amp;imgrefurl=http://www.33ff.com/flags/worldflags/Italy_flag.html&amp;usg=__5rkdyKZUr6J9H_8F46_L1_J06Iw=&amp;h=240&amp;w=360&amp;sz=7&amp;hl=en&amp;start=10&amp;um=1&amp;itbs=1&amp;tbnid=GyWwUOJEWzYTBM:&amp;tbnh=81&amp;tbnw=121&amp;prev=/images%3Fq%3DFlag%2Bof%2Bitaly%26hl%3Den%26safe%3Doff%26rlz%3D1T4DANZ_en-GBNZ280NZ280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nz/imgres?imgurl=http://mapsof.net/uploads/static-maps/italy_looking_like_the_flag.png&amp;imgrefurl=http://mapsof.net/italy/static-maps/png/italy-looking-like-the-flag&amp;usg=__LIZea8RXBCAfoa6LHi5S7EzoNCg=&amp;h=1064&amp;w=902&amp;sz=21&amp;hl=en&amp;start=1&amp;um=1&amp;itbs=1&amp;tbnid=Dw9IxsGhmIcf7M:&amp;tbnh=150&amp;tbnw=127&amp;prev=/images%3Fq%3DFlag%2Bof%2Bitaly%2Bwith%2Bmap%2Bon%26hl%3Den%26safe%3Doff%26rlz%3D1T4DANZ_en-GBNZ280NZ280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nz/imgres?imgurl=http://nylarej.files.wordpress.com/2009/07/cookingitalianrecipes-net.jpg&amp;imgrefurl=http://nylarej.wordpress.com/2009/07/29/the-trick-of-cooking-italian-pasta/&amp;usg=__CUWvMtgJUTXfNJmQsobFQUDvdMQ=&amp;h=325&amp;w=400&amp;sz=29&amp;hl=en&amp;start=2&amp;um=1&amp;itbs=1&amp;tbnid=eD2ZC7ojsDrqLM:&amp;tbnh=101&amp;tbnw=124&amp;prev=/images%3Fq%3DYummy%2BItalian%2BPasta%26hl%3Den%26safe%3Doff%26rlz%3D1T4DANZ_en-GBNZ280NZ280%26um%3D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ghsnobiety.com/news/wp-content/uploads/2008/12/lacoste-mita-sneakers-m85-mid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.nz/imgres?imgurl=http://www.ecarruthers.com/store/pc/catalog/gi_jandal11.5.jpg&amp;imgrefurl=http://www.ecarruthers.com/store/pc/viewPrd.asp%3Fidproduct%3D239&amp;usg=__gm-1iOV2kSDbRLGsu30eXWrhF1s=&amp;h=220&amp;w=165&amp;sz=10&amp;hl=en&amp;start=17&amp;um=1&amp;itbs=1&amp;tbnid=-cWeOdOVuBcNfM:&amp;tbnh=107&amp;tbnw=80&amp;prev=/images%3Fq%3DJandal%26hl%3Den%26safe%3Doff%26rlz%3D1T4DANZ_en-GBNZ280NZ280%26um%3D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how-to-draw-cartoons-online.com/image-files/cartoon_pizza.gif&amp;imgrefurl=http://www.how-to-draw-cartoons-online.com/cartoon-pizza.html&amp;usg=__Xj2KzweTKRLdJkymG6Mq69MNMF8=&amp;h=236&amp;w=260&amp;sz=28&amp;hl=en&amp;start=3&amp;um=1&amp;tbnid=9CJIvdZ_9vidGM:&amp;tbnh=102&amp;tbnw=112&amp;prev=/images%3Fq%3Dcartoon%2Bpizza%26hl%3Den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nz/imgres?imgurl=http://mymelange.typepad.com/photos/uncategorized/2008/02/21/gelato.jpg&amp;imgrefurl=http://mymelange.net/mymelange/2008/02/il-continori.html&amp;usg=__qp6LyamMjab3_xwPrrQZU-fAdWc=&amp;h=1066&amp;w=800&amp;sz=183&amp;hl=en&amp;start=3&amp;um=1&amp;itbs=1&amp;tbnid=E7B_rGIBbKBjvM:&amp;tbnh=150&amp;tbnw=113&amp;prev=/images%3Fq%3DChocolate%2BGelato%26hl%3Den%26safe%3Doff%26rlz%3D1T4DANZ_en-GBNZ280NZ280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.nz/imgres?imgurl=http://img.timeinc.net/recipes/i/recipes/ck/08/06/tea-sorbet-ck-1809106-l.jpg&amp;imgrefurl=http://www.sodahead.com/living/ice-cream-sorbet-or-gelato/question-751683/&amp;usg=__7HvwSzVxczk8svZ9DB5ak6SOvj0=&amp;h=300&amp;w=300&amp;sz=22&amp;hl=en&amp;start=15&amp;um=1&amp;itbs=1&amp;tbnid=CEimOD8UB2GXBM:&amp;tbnh=116&amp;tbnw=116&amp;prev=/images%3Fq%3DSorbet%2BGelato%26hl%3Den%26safe%3Doff%26rlz%3D1T4DANZ_en-GBNZ280NZ280%26sa%3DX%26um%3D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.nz/imgres?imgurl=http://www.gothamist.com/attachments/food_youngna/pinkberry_01.jpg&amp;imgrefurl=http://gothamist.com/2007/06/04/fro_yo_challeng.php&amp;usg=__HFF6B_YaWu4qcQMEKEFVxjWoOgo=&amp;h=371&amp;w=500&amp;sz=20&amp;hl=en&amp;start=13&amp;um=1&amp;itbs=1&amp;tbnid=FYF9JN6-gV42RM:&amp;tbnh=96&amp;tbnw=130&amp;prev=/images%3Fq%3Dpinkberry%2Byolato%2Byogurt%26hl%3Den%26safe%3Doff%26rlz%3D1T4DANZ_en-GBNZ280NZ280%26sa%3DX%26um%3D1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hyperlink" Target="http://images.google.co.nz/imgres?imgurl=http://iconics.ws/wordpress/wp-content/uploads/2009/pizza-hut_logo.jpg&amp;imgrefurl=http://iconics.ws/wordpress/%3Fm%3D200901&amp;usg=__DjHs8doxjfeOncdnkJd_KhEQTLY=&amp;h=302&amp;w=300&amp;sz=18&amp;hl=en&amp;start=1&amp;um=1&amp;itbs=1&amp;tbnid=RDXK0GnLy3wtUM:&amp;tbnh=116&amp;tbnw=115&amp;prev=/images%3Fq%3DPizza%2BHut%2BLogo%26hl%3Den%26safe%3Doff%26rlz%3D1T4DANZ_en-GBNZ280NZ280%26um%3D1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http://images.google.co.nz/imgres?imgurl=http://2.bp.blogspot.com/_kIEGGXJ4LTY/SmZNIcw8PPI/AAAAAAAAAgM/utpLv4-A46Y/s400/dominos_pizza_logo.gif&amp;imgrefurl=http://logoencyclopedia.blogspot.com/2009/07/dominos-pizza-logo.html&amp;usg=__HBXQtUYSJsZq6CTjOtvOHJaJBHY=&amp;h=250&amp;w=250&amp;sz=5&amp;hl=en&amp;start=17&amp;um=1&amp;itbs=1&amp;tbnid=K2ntA28P8j1aWM:&amp;tbnh=111&amp;tbnw=111&amp;prev=/images%3Fq%3DDomino%2Bpizza%2BLogo%26hl%3Den%26safe%3Doff%26rlz%3D1T4DANZ_en-GBNZ280NZ280%26sa%3DX%26um%3D1" TargetMode="External"/><Relationship Id="rId13" Type="http://schemas.openxmlformats.org/officeDocument/2006/relationships/image" Target="../media/image13.jpeg"/><Relationship Id="rId14" Type="http://schemas.openxmlformats.org/officeDocument/2006/relationships/hyperlink" Target="http://images.google.co.nz/imgres?imgurl=http://2.bp.blogspot.com/_mg7D3kYysfw/RtD9TGenN1I/AAAAAAAADcM/8ArrYE2sMlE/s400/1002318_Logo.jpg&amp;imgrefurl=http://aconstantineblacklist.blogspot.com/2007_08_01_archive.html&amp;usg=__-8bSGNqfA0JJbj_aUHj3EyMVHQk=&amp;h=170&amp;w=250&amp;sz=13&amp;hl=en&amp;start=4&amp;um=1&amp;itbs=1&amp;tbnid=qBbTSDITAH9IMM:&amp;tbnh=75&amp;tbnw=111&amp;prev=/images%3Fq%3DHell%2BPizza%2BLogo%26hl%3Den%26safe%3Doff%26rlz%3D1T4DANZ_en-GBNZ280NZ280%26um%3D1" TargetMode="External"/><Relationship Id="rId15" Type="http://schemas.openxmlformats.org/officeDocument/2006/relationships/image" Target="../media/image14.jpeg"/><Relationship Id="rId16" Type="http://schemas.openxmlformats.org/officeDocument/2006/relationships/hyperlink" Target="http://images.google.co.nz/imgres?imgurl=http://www.neurope.eu/images/icons/countries/china-flag.gif&amp;imgrefurl=http://www.neurope.eu/articles/EU-firms-bullish-on-China-intellectual-property-debated/97348.php&amp;usg=__GpTv6dd4IaF73SXB4e98qWUNzOc=&amp;h=332&amp;w=500&amp;sz=6&amp;hl=en&amp;start=7&amp;um=1&amp;itbs=1&amp;tbnid=qGVw-5GxFqFejM:&amp;tbnh=86&amp;tbnw=130&amp;prev=/images%3Fq%3DChina%2BFlag%26hl%3Den%26safe%3Doff%26rlz%3D1T4DANZ_en-GBNZ280NZ280%26um%3D1" TargetMode="External"/><Relationship Id="rId17" Type="http://schemas.openxmlformats.org/officeDocument/2006/relationships/image" Target="../media/image15.jpeg"/><Relationship Id="rId18" Type="http://schemas.openxmlformats.org/officeDocument/2006/relationships/image" Target="../media/image16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5636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2000" y="0"/>
            <a:ext cx="0" cy="6453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0"/>
            <a:ext cx="30254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2349360"/>
            <a:ext cx="309708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826920" y="260280"/>
            <a:ext cx="745200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92360" y="1341360"/>
            <a:ext cx="18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 Black"/>
              </a:rPr>
              <a:t>Mmm...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2276640"/>
            <a:ext cx="2879640" cy="1912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0"/>
            <a:ext cx="734544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Kahootz Cartoon"/>
              </a:rPr>
              <a:t>Fun Fac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Kahootz Cartoon"/>
              <a:ea typeface="Kahootz Cartoon"/>
            </a:endParaRPr>
          </a:p>
        </p:txBody>
      </p:sp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1989000"/>
            <a:ext cx="2303640" cy="208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476360" y="1700280"/>
            <a:ext cx="62056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115920"/>
            <a:ext cx="8496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Kahootz Burnum Bold"/>
              </a:rPr>
              <a:t>Food!!! </a:t>
            </a:r>
            <a:endParaRPr b="0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Kahootz Burnum Bold"/>
              <a:ea typeface="Kahootz Burnum Bold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0028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4581360"/>
            <a:ext cx="2089080" cy="22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03280" y="4581360"/>
            <a:ext cx="208908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92360" y="4581360"/>
            <a:ext cx="2089440" cy="2276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500720" y="184464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42920" y="2421000"/>
            <a:ext cx="596880" cy="60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95640" y="24940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547640" y="342900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276720" y="1341360"/>
            <a:ext cx="211428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ahootz Burnum Medium"/>
              </a:rPr>
              <a:t>Yummy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ahootz Burnum Medium"/>
              <a:ea typeface="Kahootz Burnum Medium"/>
            </a:endParaRPr>
          </a:p>
        </p:txBody>
      </p:sp>
      <p:pic>
        <p:nvPicPr>
          <p:cNvPr id="64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796000" y="1557360"/>
            <a:ext cx="834840" cy="55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96000" y="1557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2268360" y="1484280"/>
            <a:ext cx="50403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609480" cy="1428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710160"/>
            <a:ext cx="43210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oudy Stout"/>
              </a:rPr>
              <a:t>Grand Canal In Ve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Goudy Stout"/>
              </a:rPr>
              <a:t>skiing in the world class resorts</a:t>
            </a:r>
            <a:r>
              <a:rPr b="0" lang="en-US" sz="1600" spc="-1" strike="noStrike">
                <a:solidFill>
                  <a:srgbClr val="000000"/>
                </a:solidFill>
                <a:latin typeface="Goudy Stou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oudy Stout"/>
              </a:rPr>
              <a:t>Leaning Tower Of Pi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203640" y="1197000"/>
            <a:ext cx="1008000" cy="295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80000" y="4868640"/>
            <a:ext cx="720720" cy="1081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987280" y="2133720"/>
            <a:ext cx="1513080" cy="2735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6:14:06Z</dcterms:created>
  <dc:creator>Sanson</dc:creator>
  <dc:description/>
  <dc:language>en-US</dc:language>
  <cp:lastModifiedBy>AliceH</cp:lastModifiedBy>
  <dcterms:modified xsi:type="dcterms:W3CDTF">2009-12-08T22:57:51Z</dcterms:modified>
  <cp:revision>8</cp:revision>
  <dc:subject/>
  <dc:title>Slide 1</dc:title>
</cp:coreProperties>
</file>